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lass.wav" ContentType="audio/x-wav"/>
  <Override PartName="/ppt/media/highchime.wav" ContentType="audio/x-wav"/>
  <Override PartName="/ppt/media/image3.gif" ContentType="image/gif"/>
  <Override PartName="/ppt/media/camera.wav" ContentType="audio/x-wav"/>
  <Override PartName="/ppt/media/image2.gif" ContentType="image/gif"/>
  <Override PartName="/ppt/media/zapbig0g.wav" ContentType="audio/x-wav"/>
  <Override PartName="/ppt/media/lzipup01.wav" ContentType="audio/x-wav"/>
  <Override PartName="/ppt/media/caralarmoff.wav" ContentType="audio/x-wav"/>
  <Override PartName="/ppt/media/bserie06.wav" ContentType="audio/x-wav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AD4D-9040-4715-A2E4-18B764F3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482-3974-407E-B9E1-726F15B3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EBA-F79D-46A8-B184-746CC802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EA8-DBBE-4EFA-B097-7C79E960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ED0-38E0-4529-913D-1C20A8BF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2A5-681B-4AF4-9B40-A081DB70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913-1F2C-49C9-AE33-73D1B3B1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66C-E6F2-4598-A928-075009CD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BACB-5241-404F-92D3-EB819CEB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5BB-9D71-4F03-B2DE-E73B30EF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C82-0CD9-4752-93B7-80A3823A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772-D7B9-4BED-B8D4-0EA0C089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EB3B-941F-4B24-8162-A107D666A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highchime.wav"/><Relationship Id="rId3" Type="http://schemas.openxmlformats.org/officeDocument/2006/relationships/audio" Target="../media/camera.wav"/><Relationship Id="rId4" Type="http://schemas.openxmlformats.org/officeDocument/2006/relationships/audio" Target="../media/lzipup01.wav"/><Relationship Id="rId5" Type="http://schemas.openxmlformats.org/officeDocument/2006/relationships/audio" Target="../media/glass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caralarmoff.wav"/><Relationship Id="rId14" Type="http://schemas.openxmlformats.org/officeDocument/2006/relationships/audio" Target="../media/glass.wav"/><Relationship Id="rId15" Type="http://schemas.openxmlformats.org/officeDocument/2006/relationships/audio" Target="../media/bserie06.wav"/><Relationship Id="rId16" Type="http://schemas.openxmlformats.org/officeDocument/2006/relationships/audio" Target="../media/caralarmoff.wav"/><Relationship Id="rId17" Type="http://schemas.openxmlformats.org/officeDocument/2006/relationships/audio" Target="../media/bserie06.wav"/><Relationship Id="rId18" Type="http://schemas.openxmlformats.org/officeDocument/2006/relationships/audio" Target="../media/caralarmoff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caralarmoff.wav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amera.wav"/><Relationship Id="rId3" Type="http://schemas.openxmlformats.org/officeDocument/2006/relationships/audio" Target="../media/lzipup01.wav"/><Relationship Id="rId4" Type="http://schemas.openxmlformats.org/officeDocument/2006/relationships/audio" Target="../media/glass.wav"/><Relationship Id="rId5" Type="http://schemas.openxmlformats.org/officeDocument/2006/relationships/audio" Target="../media/bserie06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zapbig0g.wav"/><Relationship Id="rId14" Type="http://schemas.openxmlformats.org/officeDocument/2006/relationships/audio" Target="../media/bserie06.wav"/><Relationship Id="rId15" Type="http://schemas.openxmlformats.org/officeDocument/2006/relationships/audio" Target="../media/caralarmoff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glass.wav"/><Relationship Id="rId3" Type="http://schemas.openxmlformats.org/officeDocument/2006/relationships/audio" Target="../media/bserie06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caralarmoff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mera.wav"/><Relationship Id="rId3" Type="http://schemas.openxmlformats.org/officeDocument/2006/relationships/audio" Target="../media/lzipup01.wav"/><Relationship Id="rId4" Type="http://schemas.openxmlformats.org/officeDocument/2006/relationships/audio" Target="../media/glass.wav"/><Relationship Id="rId5" Type="http://schemas.openxmlformats.org/officeDocument/2006/relationships/audio" Target="../media/bserie06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zapbig0g.wav"/><Relationship Id="rId14" Type="http://schemas.openxmlformats.org/officeDocument/2006/relationships/audio" Target="../media/bserie06.wav"/><Relationship Id="rId15" Type="http://schemas.openxmlformats.org/officeDocument/2006/relationships/audio" Target="../media/caralarmoff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glass.wav"/><Relationship Id="rId3" Type="http://schemas.openxmlformats.org/officeDocument/2006/relationships/audio" Target="../media/bserie06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caralarmoff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amera.wav"/><Relationship Id="rId3" Type="http://schemas.openxmlformats.org/officeDocument/2006/relationships/audio" Target="../media/zapbig0g.wav"/><Relationship Id="rId4" Type="http://schemas.openxmlformats.org/officeDocument/2006/relationships/audio" Target="../media/glass.wav"/><Relationship Id="rId5" Type="http://schemas.openxmlformats.org/officeDocument/2006/relationships/audio" Target="../media/bserie06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caralarmoff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417600" y="1805040"/>
                <a:ext cx="55594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What is 24% of $30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mber Compared to Base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319480" y="2697120"/>
                <a:ext cx="5601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677960" y="260676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813040" y="2517840"/>
                <a:ext cx="14000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629240" y="2513160"/>
                <a:ext cx="839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105440" y="2651040"/>
                <a:ext cx="5047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725480" y="3473280"/>
                <a:ext cx="1065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062160" y="3341520"/>
                <a:ext cx="14018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692440" y="3321000"/>
                <a:ext cx="5047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20840" y="4149720"/>
                <a:ext cx="66132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What is 60% of 15 miles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335320" y="5065560"/>
                <a:ext cx="5601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693800" y="497520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828880" y="4886280"/>
                <a:ext cx="14004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672080" y="4869000"/>
                <a:ext cx="7840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159080" y="5006880"/>
                <a:ext cx="5050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741320" y="5842080"/>
                <a:ext cx="1065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897280" y="5672160"/>
                <a:ext cx="50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433680" y="5665680"/>
                <a:ext cx="1683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le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" name=""/>
          <p:cNvGrpSpPr/>
          <p:nvPr/>
        </p:nvGrpSpPr>
        <p:grpSpPr>
          <a:xfrm>
            <a:off x="168120" y="1163520"/>
            <a:ext cx="8975880" cy="1509840"/>
            <a:chOff x="168120" y="1163520"/>
            <a:chExt cx="8975880" cy="1509840"/>
          </a:xfrm>
        </p:grpSpPr>
        <p:sp>
          <p:nvSpPr>
            <p:cNvPr id="62" name=""/>
            <p:cNvSpPr/>
            <p:nvPr/>
          </p:nvSpPr>
          <p:spPr>
            <a:xfrm>
              <a:off x="168120" y="1163520"/>
              <a:ext cx="897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se equations to solve percen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7294680" y="1273320"/>
              <a:ext cx="1000080" cy="140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33200" y="2276640"/>
                <a:ext cx="90108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Sixty grams is 40% of what weight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e Number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597120" y="3192480"/>
                <a:ext cx="5605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787480" y="3017880"/>
                <a:ext cx="8971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091040" y="3013200"/>
                <a:ext cx="14000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927760" y="3143160"/>
                <a:ext cx="671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83080" y="3146400"/>
                <a:ext cx="5050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327640" y="4770360"/>
                <a:ext cx="1851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4336920" y="3753000"/>
            <a:ext cx="207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44720" y="377820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110200" y="3701880"/>
                <a:ext cx="6732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898720" y="3716280"/>
                <a:ext cx="6746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989440" y="4608360"/>
                <a:ext cx="24094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" name=""/>
          <p:cNvGrpSpPr/>
          <p:nvPr/>
        </p:nvGrpSpPr>
        <p:grpSpPr>
          <a:xfrm>
            <a:off x="168120" y="216000"/>
            <a:ext cx="8975880" cy="2084400"/>
            <a:chOff x="168120" y="216000"/>
            <a:chExt cx="8975880" cy="2084400"/>
          </a:xfrm>
        </p:grpSpPr>
        <p:sp>
          <p:nvSpPr>
            <p:cNvPr id="79" name=""/>
            <p:cNvSpPr/>
            <p:nvPr/>
          </p:nvSpPr>
          <p:spPr>
            <a:xfrm>
              <a:off x="168120" y="1362240"/>
              <a:ext cx="897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se equations to solve percen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6781680" y="216000"/>
              <a:ext cx="2084400" cy="208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3080" y="2224080"/>
                <a:ext cx="90709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Fifteen yards  is 30% of what distance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e Number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530520" y="3116160"/>
                <a:ext cx="5605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776680" y="2941560"/>
                <a:ext cx="784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024440" y="2936880"/>
                <a:ext cx="14000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888160" y="2982960"/>
                <a:ext cx="615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16480" y="3070080"/>
                <a:ext cx="5047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238720" y="4579920"/>
                <a:ext cx="168264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ard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270320" y="3676680"/>
            <a:ext cx="207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8120" y="370188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043600" y="3625920"/>
                <a:ext cx="6728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832120" y="3639960"/>
                <a:ext cx="6746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073320" y="4532400"/>
                <a:ext cx="21081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" name=""/>
          <p:cNvGrpSpPr/>
          <p:nvPr/>
        </p:nvGrpSpPr>
        <p:grpSpPr>
          <a:xfrm>
            <a:off x="168120" y="216000"/>
            <a:ext cx="8975880" cy="2084400"/>
            <a:chOff x="168120" y="216000"/>
            <a:chExt cx="8975880" cy="2084400"/>
          </a:xfrm>
        </p:grpSpPr>
        <p:sp>
          <p:nvSpPr>
            <p:cNvPr id="96" name=""/>
            <p:cNvSpPr/>
            <p:nvPr/>
          </p:nvSpPr>
          <p:spPr>
            <a:xfrm>
              <a:off x="168120" y="1362240"/>
              <a:ext cx="897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se equations to solve percen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6781680" y="216000"/>
              <a:ext cx="2084400" cy="208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25360" y="1909800"/>
                <a:ext cx="8675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Forty-five is what percent of 180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nt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527280" y="2809800"/>
                <a:ext cx="5605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606760" y="2624040"/>
                <a:ext cx="8967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237200" y="2732040"/>
                <a:ext cx="671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46720" y="2625840"/>
                <a:ext cx="11192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836960" y="2751120"/>
                <a:ext cx="5050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614920" y="4295880"/>
                <a:ext cx="20890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267080" y="3370320"/>
            <a:ext cx="207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4000" y="338472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16440" y="3319560"/>
                <a:ext cx="11206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494080" y="3322800"/>
                <a:ext cx="11239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962440" y="4329000"/>
                <a:ext cx="2651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2" name=""/>
          <p:cNvGrpSpPr/>
          <p:nvPr/>
        </p:nvGrpSpPr>
        <p:grpSpPr>
          <a:xfrm>
            <a:off x="168120" y="546120"/>
            <a:ext cx="8975880" cy="1305000"/>
            <a:chOff x="168120" y="546120"/>
            <a:chExt cx="8975880" cy="1305000"/>
          </a:xfrm>
        </p:grpSpPr>
        <p:sp>
          <p:nvSpPr>
            <p:cNvPr id="113" name=""/>
            <p:cNvSpPr/>
            <p:nvPr/>
          </p:nvSpPr>
          <p:spPr>
            <a:xfrm>
              <a:off x="168120" y="1225440"/>
              <a:ext cx="897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se equations to solve percen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6724800" y="546120"/>
              <a:ext cx="1042920" cy="130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5920" y="1930320"/>
                <a:ext cx="7140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Sixty is what percent of 15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cent is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370240" y="2792520"/>
                <a:ext cx="5601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9360" y="2606760"/>
                <a:ext cx="8971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79800" y="2714760"/>
                <a:ext cx="671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356000" y="2608200"/>
                <a:ext cx="7844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679920" y="2733840"/>
                <a:ext cx="504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413160" y="4303800"/>
                <a:ext cx="24480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110040" y="3352680"/>
            <a:ext cx="207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06600" y="336708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827520" y="3301920"/>
                <a:ext cx="784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504800" y="3305160"/>
                <a:ext cx="7876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700280" y="4299120"/>
                <a:ext cx="1807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9" name=""/>
          <p:cNvGrpSpPr/>
          <p:nvPr/>
        </p:nvGrpSpPr>
        <p:grpSpPr>
          <a:xfrm>
            <a:off x="168120" y="546120"/>
            <a:ext cx="8975880" cy="1305000"/>
            <a:chOff x="168120" y="546120"/>
            <a:chExt cx="8975880" cy="1305000"/>
          </a:xfrm>
        </p:grpSpPr>
        <p:sp>
          <p:nvSpPr>
            <p:cNvPr id="130" name=""/>
            <p:cNvSpPr/>
            <p:nvPr/>
          </p:nvSpPr>
          <p:spPr>
            <a:xfrm>
              <a:off x="168120" y="1225440"/>
              <a:ext cx="897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se equations to solve percen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6724800" y="546120"/>
              <a:ext cx="1042920" cy="130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ing and Using Perc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04880" y="2581200"/>
                <a:ext cx="7235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at is 85% of 200 questions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076480" y="3543480"/>
                <a:ext cx="5605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434960" y="345276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97040" y="3363840"/>
                <a:ext cx="13446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357800" y="3346560"/>
                <a:ext cx="12319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900600" y="3484440"/>
                <a:ext cx="5047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482840" y="4319640"/>
                <a:ext cx="1065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543040" y="4149720"/>
                <a:ext cx="1122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649680" y="4119480"/>
                <a:ext cx="27478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uestion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168120" y="1163520"/>
            <a:ext cx="8975880" cy="5694480"/>
            <a:chOff x="168120" y="1163520"/>
            <a:chExt cx="8975880" cy="5694480"/>
          </a:xfrm>
        </p:grpSpPr>
        <p:sp>
          <p:nvSpPr>
            <p:cNvPr id="144" name=""/>
            <p:cNvSpPr/>
            <p:nvPr/>
          </p:nvSpPr>
          <p:spPr>
            <a:xfrm>
              <a:off x="168120" y="1163520"/>
              <a:ext cx="8975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00"/>
                  </a:solidFill>
                  <a:latin typeface="Times New Roman"/>
                </a:rPr>
                <a:t>7.  You took a multiple-choice exam with 200 questions. You answered 85% of the questions correctly. How many questions did you answer correctly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6315120" y="4232160"/>
              <a:ext cx="2828880" cy="262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3-02-14T14:30:40Z</dcterms:modified>
  <cp:revision>24</cp:revision>
  <dc:subject/>
  <dc:title>Slide 1</dc:title>
</cp:coreProperties>
</file>